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74FD-96D5-46E2-8968-78616D7588A4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D97C-F495-43AA-A38B-74BFC8C08AC8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1574-6592-4770-8341-C089F5C77EB4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Line 301"/>
          <p:cNvSpPr/>
          <p:nvPr/>
        </p:nvSpPr>
        <p:spPr>
          <a:xfrm>
            <a:off x="3995640" y="3757680"/>
            <a:ext cx="50328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Line 300"/>
          <p:cNvSpPr/>
          <p:nvPr/>
        </p:nvSpPr>
        <p:spPr>
          <a:xfrm>
            <a:off x="4140360" y="3757680"/>
            <a:ext cx="50292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0" name="Rectangle 298"/>
          <p:cNvSpPr/>
          <p:nvPr/>
        </p:nvSpPr>
        <p:spPr>
          <a:xfrm>
            <a:off x="2484360" y="4164120"/>
            <a:ext cx="6659640" cy="215640"/>
          </a:xfrm>
          <a:prstGeom prst="rect">
            <a:avLst/>
          </a:prstGeom>
          <a:solidFill>
            <a:srgbClr val="0056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Rectangle 297"/>
          <p:cNvSpPr/>
          <p:nvPr/>
        </p:nvSpPr>
        <p:spPr>
          <a:xfrm rot="10800000">
            <a:off x="0" y="4246200"/>
            <a:ext cx="9144000" cy="148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3" name="Freeform 296"/>
          <p:cNvSpPr/>
          <p:nvPr/>
        </p:nvSpPr>
        <p:spPr>
          <a:xfrm>
            <a:off x="-9360" y="3949560"/>
            <a:ext cx="9153360" cy="2908440"/>
          </a:xfrm>
          <a:custGeom>
            <a:avLst/>
            <a:gdLst/>
            <a:ahLst/>
            <a:rect l="l" t="t" r="r" b="b"/>
            <a:pathLst>
              <a:path w="5746" h="2159">
                <a:moveTo>
                  <a:pt x="5746" y="2159"/>
                </a:moveTo>
                <a:lnTo>
                  <a:pt x="0" y="2159"/>
                </a:lnTo>
                <a:lnTo>
                  <a:pt x="0" y="0"/>
                </a:lnTo>
                <a:lnTo>
                  <a:pt x="31" y="35"/>
                </a:lnTo>
                <a:lnTo>
                  <a:pt x="69" y="76"/>
                </a:lnTo>
                <a:lnTo>
                  <a:pt x="132" y="125"/>
                </a:lnTo>
                <a:lnTo>
                  <a:pt x="212" y="184"/>
                </a:lnTo>
                <a:lnTo>
                  <a:pt x="316" y="254"/>
                </a:lnTo>
                <a:lnTo>
                  <a:pt x="375" y="289"/>
                </a:lnTo>
                <a:lnTo>
                  <a:pt x="441" y="323"/>
                </a:lnTo>
                <a:lnTo>
                  <a:pt x="514" y="362"/>
                </a:lnTo>
                <a:lnTo>
                  <a:pt x="594" y="400"/>
                </a:lnTo>
                <a:lnTo>
                  <a:pt x="681" y="435"/>
                </a:lnTo>
                <a:lnTo>
                  <a:pt x="775" y="473"/>
                </a:lnTo>
                <a:lnTo>
                  <a:pt x="876" y="508"/>
                </a:lnTo>
                <a:lnTo>
                  <a:pt x="984" y="546"/>
                </a:lnTo>
                <a:lnTo>
                  <a:pt x="1098" y="577"/>
                </a:lnTo>
                <a:lnTo>
                  <a:pt x="1224" y="612"/>
                </a:lnTo>
                <a:lnTo>
                  <a:pt x="1352" y="643"/>
                </a:lnTo>
                <a:lnTo>
                  <a:pt x="1495" y="671"/>
                </a:lnTo>
                <a:lnTo>
                  <a:pt x="1641" y="699"/>
                </a:lnTo>
                <a:lnTo>
                  <a:pt x="1797" y="723"/>
                </a:lnTo>
                <a:lnTo>
                  <a:pt x="1961" y="744"/>
                </a:lnTo>
                <a:lnTo>
                  <a:pt x="2134" y="761"/>
                </a:lnTo>
                <a:lnTo>
                  <a:pt x="2319" y="775"/>
                </a:lnTo>
                <a:lnTo>
                  <a:pt x="2510" y="786"/>
                </a:lnTo>
                <a:lnTo>
                  <a:pt x="2711" y="793"/>
                </a:lnTo>
                <a:lnTo>
                  <a:pt x="2923" y="796"/>
                </a:lnTo>
                <a:lnTo>
                  <a:pt x="3135" y="793"/>
                </a:lnTo>
                <a:lnTo>
                  <a:pt x="3334" y="786"/>
                </a:lnTo>
                <a:lnTo>
                  <a:pt x="3525" y="775"/>
                </a:lnTo>
                <a:lnTo>
                  <a:pt x="3706" y="761"/>
                </a:lnTo>
                <a:lnTo>
                  <a:pt x="3879" y="744"/>
                </a:lnTo>
                <a:lnTo>
                  <a:pt x="4039" y="723"/>
                </a:lnTo>
                <a:lnTo>
                  <a:pt x="4192" y="699"/>
                </a:lnTo>
                <a:lnTo>
                  <a:pt x="4338" y="671"/>
                </a:lnTo>
                <a:lnTo>
                  <a:pt x="4474" y="643"/>
                </a:lnTo>
                <a:lnTo>
                  <a:pt x="4599" y="612"/>
                </a:lnTo>
                <a:lnTo>
                  <a:pt x="4721" y="577"/>
                </a:lnTo>
                <a:lnTo>
                  <a:pt x="4832" y="546"/>
                </a:lnTo>
                <a:lnTo>
                  <a:pt x="4933" y="508"/>
                </a:lnTo>
                <a:lnTo>
                  <a:pt x="5030" y="473"/>
                </a:lnTo>
                <a:lnTo>
                  <a:pt x="5117" y="435"/>
                </a:lnTo>
                <a:lnTo>
                  <a:pt x="5200" y="400"/>
                </a:lnTo>
                <a:lnTo>
                  <a:pt x="5277" y="362"/>
                </a:lnTo>
                <a:lnTo>
                  <a:pt x="5343" y="323"/>
                </a:lnTo>
                <a:lnTo>
                  <a:pt x="5405" y="289"/>
                </a:lnTo>
                <a:lnTo>
                  <a:pt x="5461" y="254"/>
                </a:lnTo>
                <a:lnTo>
                  <a:pt x="5513" y="219"/>
                </a:lnTo>
                <a:lnTo>
                  <a:pt x="5555" y="184"/>
                </a:lnTo>
                <a:lnTo>
                  <a:pt x="5631" y="125"/>
                </a:lnTo>
                <a:lnTo>
                  <a:pt x="5683" y="76"/>
                </a:lnTo>
                <a:lnTo>
                  <a:pt x="5718" y="35"/>
                </a:lnTo>
                <a:lnTo>
                  <a:pt x="5746" y="0"/>
                </a:lnTo>
                <a:lnTo>
                  <a:pt x="5746" y="2159"/>
                </a:lnTo>
                <a:close/>
              </a:path>
            </a:pathLst>
          </a:custGeom>
          <a:gradFill rotWithShape="0">
            <a:gsLst>
              <a:gs pos="0">
                <a:srgbClr val="0056d4"/>
              </a:gs>
              <a:gs pos="100000">
                <a:srgbClr val="002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РЕГИСТРИРОВАННЫХ В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-9360" y="2707920"/>
            <a:ext cx="9153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й Иванович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ьков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 ноября 2019 года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Москв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у пациентов  заболеваний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163440" y="789120"/>
            <a:ext cx="8839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Оба результата не являются диагнозом какого-либо заболевания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7" name="Прямоугольник 1"/>
          <p:cNvSpPr/>
          <p:nvPr/>
        </p:nvSpPr>
        <p:spPr>
          <a:xfrm>
            <a:off x="684360" y="765000"/>
            <a:ext cx="7848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Юрий Иванович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r>
              <a:rPr b="1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ведующий отделением статистики  специализированных служб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 05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 06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OskovYI@mail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3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0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1" name="Таблица 1" descr=""/>
          <p:cNvPicPr/>
          <p:nvPr/>
        </p:nvPicPr>
        <p:blipFill>
          <a:blip r:embed="rId1"/>
          <a:stretch/>
        </p:blipFill>
        <p:spPr>
          <a:xfrm>
            <a:off x="749160" y="1006560"/>
            <a:ext cx="75726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2. Дети первых трех лет жизн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160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Дети первого года жизни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Факторы, влияющие на состояние здоровья населения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и обращения в медицинские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(с профилактической и иной целью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заполняется по обращениям детей первого года жизн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0"/>
          <p:cNvSpPr/>
          <p:nvPr/>
        </p:nvSpPr>
        <p:spPr>
          <a:xfrm>
            <a:off x="900000" y="1557360"/>
            <a:ext cx="77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3200"/>
            </a:b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" name="Прямоугольник 21"/>
          <p:cNvSpPr/>
          <p:nvPr/>
        </p:nvSpPr>
        <p:spPr>
          <a:xfrm>
            <a:off x="1332000" y="620640"/>
            <a:ext cx="67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№1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7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276280"/>
            <a:ext cx="8064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ение формы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е в номенклатуру медицинских организаций, оказывающие  медицин-скую  помощь  в  амбулаторных  условия (приказ Минздрава  России  от 6  августа  2013 г.  № 529н «Об утверждении номенклатуры медицинских организаций», заре-гистрирован Министерством юстиции Российской Федерации 13.09.2013 № 29950,в соответствии с приказом от 21 июля 2016 года № 355 «Об утверждении статисти-ческого  инструментария  для  организации  Министерством здравоохранения Рос-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68580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1280" y="1246320"/>
          <a:ext cx="7993080" cy="448308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мните о данных строчках</a:t>
                      </a:r>
                      <a:endParaRPr b="1" lang="en-US" sz="1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3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МНИТЕ О ПРЕЕМСТВЕННОСТИ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7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9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4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6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6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9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1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8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971640" y="1125360"/>
            <a:ext cx="770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 – должен стоять 0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 – должен стоять 0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2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4" name="Прямоугольник 1"/>
          <p:cNvSpPr/>
          <p:nvPr/>
        </p:nvSpPr>
        <p:spPr>
          <a:xfrm>
            <a:off x="755640" y="1989000"/>
            <a:ext cx="77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и</a:t>
            </a:r>
            <a:br>
              <a:rPr sz="40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907920"/>
            <a:ext cx="7886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Контроль таблиц </a:t>
            </a:r>
            <a:br>
              <a:rPr sz="4000"/>
            </a:br>
            <a:r>
              <a:rPr b="0" lang="en-US" sz="4000" spc="-1" strike="noStrike">
                <a:solidFill>
                  <a:srgbClr val="606060"/>
                </a:solidFill>
                <a:latin typeface="굴림"/>
              </a:rPr>
              <a:t>1000, 2000, 3000, 4000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в </a:t>
            </a:r>
            <a:r>
              <a:rPr b="1" lang="en-US" sz="4000" spc="-1" strike="noStrike">
                <a:solidFill>
                  <a:srgbClr val="c00000"/>
                </a:solidFill>
                <a:latin typeface="굴림"/>
              </a:rPr>
              <a:t>Excel</a:t>
            </a: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250920" y="1776240"/>
            <a:ext cx="864216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6" name="Рисунок 5" descr=""/>
          <p:cNvPicPr/>
          <p:nvPr/>
        </p:nvPicPr>
        <p:blipFill>
          <a:blip r:embed="rId1"/>
          <a:stretch/>
        </p:blipFill>
        <p:spPr>
          <a:xfrm>
            <a:off x="0" y="506520"/>
            <a:ext cx="9109080" cy="63514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1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0" name="Рисунок 1" descr=""/>
          <p:cNvPicPr/>
          <p:nvPr/>
        </p:nvPicPr>
        <p:blipFill>
          <a:blip r:embed="rId1"/>
          <a:stretch/>
        </p:blipFill>
        <p:spPr>
          <a:xfrm>
            <a:off x="19080" y="506520"/>
            <a:ext cx="912492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3" name="Рисунок 1" descr=""/>
          <p:cNvPicPr/>
          <p:nvPr/>
        </p:nvPicPr>
        <p:blipFill>
          <a:blip r:embed="rId1"/>
          <a:stretch/>
        </p:blipFill>
        <p:spPr>
          <a:xfrm>
            <a:off x="4680" y="527040"/>
            <a:ext cx="91393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6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252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8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9" name="Рисунок 1" descr=""/>
          <p:cNvPicPr/>
          <p:nvPr/>
        </p:nvPicPr>
        <p:blipFill>
          <a:blip r:embed="rId1"/>
          <a:stretch/>
        </p:blipFill>
        <p:spPr>
          <a:xfrm>
            <a:off x="9360" y="503280"/>
            <a:ext cx="913464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1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2" name="Рисунок 1" descr=""/>
          <p:cNvPicPr/>
          <p:nvPr/>
        </p:nvPicPr>
        <p:blipFill>
          <a:blip r:embed="rId1"/>
          <a:stretch/>
        </p:blipFill>
        <p:spPr>
          <a:xfrm>
            <a:off x="31680" y="506520"/>
            <a:ext cx="91123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5" name="Рисунок 1" descr=""/>
          <p:cNvPicPr/>
          <p:nvPr/>
        </p:nvPicPr>
        <p:blipFill>
          <a:blip r:embed="rId1"/>
          <a:stretch/>
        </p:blipFill>
        <p:spPr>
          <a:xfrm>
            <a:off x="15840" y="507960"/>
            <a:ext cx="91645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7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0" y="495360"/>
            <a:ext cx="91803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12600" y="506520"/>
            <a:ext cx="91314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ГолубевНА</cp:lastModifiedBy>
  <dcterms:modified xsi:type="dcterms:W3CDTF">2019-12-18T10:03:58Z</dcterms:modified>
  <cp:revision>431</cp:revision>
  <dc:subject/>
  <dc:title>슬라이드 1</dc:title>
</cp:coreProperties>
</file>